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CB89-0C7C-4FA2-86C1-71B649A861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253E-DA6E-4886-9554-3D9E61C9471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is parted, and complimentary piece of mRNA is produ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icil is used instead of thym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6018-5018-46A8-8E45-94D1634A0B6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830A-9C8D-470A-8166-9523C4EE776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EFA9-A59B-4696-A90C-3D367AEB70A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bination of those base pairs determines what function the cell will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twisted zippper and named…a double hel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Phosphat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oxyribose sugar – nitrogenous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Guan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den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ytoc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hym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(etc)phospha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oxyribose sugar – nitrogenous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DB1B-55D5-43B8-AED7-19EA02E8654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A7F1-0CA0-4878-969A-4FCD74204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9282-ADFC-41AC-ADF8-98DCF74C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5945-043D-4B46-A73A-DD3C4ADC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7FB3-EBFC-48BF-ADEF-4BBD5CBC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E37D-8C18-41B4-997E-24C7A5FC0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CE0C-8DE1-4F1F-909C-0B92F204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F945-164E-4608-B795-6AEB8554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A345-767F-4E59-BE3C-6D67A72D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C99D-3455-4B4F-A113-32650D10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5CA7-8EF6-471B-ABB2-6E7DD2CA3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9621-1889-4FD5-A8A7-3BF6CFB6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CF51-B332-4366-94D7-04902844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1E5D-AB40-439E-8769-B545249E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A137-4F9E-4B68-BCA5-BCB156D5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A4A4-8223-4E87-812C-411D107E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CBD3-0183-4917-A2AC-D4DB895A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4A14-FD05-44D4-80BE-87BAFB0F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7161-FB06-4D42-B373-B1951777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3186-2D35-4EE7-BE1F-365AFD4C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C22D-EACF-48AD-880B-76F229A2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9819-FCB9-4603-8621-1C8AF795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9555-5049-4A08-8FBB-6B7A75C3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CED8-04A2-4A30-BAD0-F1599C4D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1523-8B0A-416E-843D-F2AEFCF2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2169-EC67-4B37-80BB-E5ACAA963936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4B44-0EF1-4A70-B6FA-39D29AA7658F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23C7-DA90-40F5-A130-A43C9F8B9D42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00D1-BE59-4BA3-966A-B935312FEE3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file:///Biology/Cracking%20the%20Code%20of%20Life.docx" TargetMode="External"/><Relationship Id="rId3" Type="http://schemas.openxmlformats.org/officeDocument/2006/relationships/hyperlink" Target="file:///Biology/Protein%20Synthesis%20and%20Words.docx" TargetMode="Externa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. Identical twins are always the same gender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.  Males and females have all of the same chromosome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3. A female that is not color blind can have color blind children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4. A man with brown eyes can father a child with blue eye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5. A persons blood type is determined by more than two genes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6. Mendel studied and manipulated pea plants in order to understand genetic inheritance, and phenotyp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7. A persons phenotype is as a direct result of their phenotype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8. All  people carry their mothers mitochondrial (mitochondria) DN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9. If a person develops cancer due to overexposure to sunlight their  children are likely to be born with cancer causing genes (DNA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Half of a persons genes come from each of their parents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1 A person can only pass on either the genes they received from their Mother, or the genes they received from their Father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2.All living things have genetic material that they pass to their “offspring”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3. DNA is made of proteins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Date Placeholder 2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DD5F-6586-4EB4-9937-4BBB175B8028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C478-39C6-4F87-94D2-5CDFD8A3E69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itle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NA  holds the instructions for making every protein and part of our bod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NA is important because Every Cell in the body has to be able to make a replacement for itself before it dies, or more so that we can grow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9" name="Date Placeholder 2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A964-E845-4471-8292-8006E4A4A924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CA16-0C0C-40B1-BFBE-EED75AFB10D0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Title 4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407440" cy="1439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ak hydrogen bonds hold together the two strands of DNA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se bonds form between Adenine and Thymine, and Guanine, and Cytosin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y AT GC?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denine and Thymine  form a double bond togeth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uanine and cytosine form a triple bond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3" name="Date Placeholder 2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0C68-3D24-4A03-83A9-D2C1CDD166B4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7D47-B40E-432D-9E1D-36EC746FB49C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sp>
        <p:nvSpPr>
          <p:cNvPr id="137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6122-8267-48B9-8664-A2EDD78459D2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955C-3038-4594-AD9F-26D4BBCFCA7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9" name="Picture 2" descr="http://www.accessexcellence.org/RC/VL/GG/images/dna_replicating.gif"/>
          <p:cNvPicPr/>
          <p:nvPr/>
        </p:nvPicPr>
        <p:blipFill>
          <a:blip r:embed="rId2"/>
          <a:stretch/>
        </p:blipFill>
        <p:spPr>
          <a:xfrm>
            <a:off x="1295280" y="228600"/>
            <a:ext cx="6400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Title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152280" y="1295280"/>
            <a:ext cx="792504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Book Antiqua"/>
              </a:rPr>
              <a:t>During  the </a:t>
            </a:r>
            <a:r>
              <a:rPr b="1" lang="en-US" sz="2600" spc="-1" strike="noStrike" u="sng">
                <a:solidFill>
                  <a:srgbClr val="0d0d0d"/>
                </a:solidFill>
                <a:uFillTx/>
                <a:latin typeface="Book Antiqua"/>
              </a:rPr>
              <a:t>Interphase</a:t>
            </a:r>
            <a:r>
              <a:rPr b="0" lang="en-US" sz="2600" spc="-1" strike="noStrike">
                <a:solidFill>
                  <a:srgbClr val="0d0d0d"/>
                </a:solidFill>
                <a:latin typeface="Book Antiqua"/>
              </a:rPr>
              <a:t> stage of cell division (Mitosis) the chromosomes must be replicated so that the two new cells will contain identical DNA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Book Antiqua"/>
              </a:rPr>
              <a:t> </a:t>
            </a:r>
            <a:r>
              <a:rPr b="0" lang="en-US" sz="2600" spc="-1" strike="noStrike">
                <a:solidFill>
                  <a:srgbClr val="0d0d0d"/>
                </a:solidFill>
                <a:latin typeface="Book Antiqua"/>
              </a:rPr>
              <a:t>To start this proces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Book Antiqua"/>
              </a:rPr>
              <a:t> </a:t>
            </a:r>
            <a:r>
              <a:rPr b="0" lang="en-US" sz="2600" spc="-1" strike="noStrike">
                <a:solidFill>
                  <a:srgbClr val="0d0d0d"/>
                </a:solidFill>
                <a:latin typeface="Book Antiqua"/>
              </a:rPr>
              <a:t>Hydrogen bonds  (</a:t>
            </a:r>
            <a:r>
              <a:rPr b="0" lang="en-US" sz="2600" spc="-1" strike="noStrike" u="sng">
                <a:solidFill>
                  <a:srgbClr val="0d0d0d"/>
                </a:solidFill>
                <a:uFillTx/>
                <a:latin typeface="Book Antiqua"/>
              </a:rPr>
              <a:t>weak</a:t>
            </a:r>
            <a:r>
              <a:rPr b="0" lang="en-US" sz="2600" spc="-1" strike="noStrike">
                <a:solidFill>
                  <a:srgbClr val="0d0d0d"/>
                </a:solidFill>
                <a:latin typeface="Book Antiqua"/>
              </a:rPr>
              <a:t>) unzipped,  one piece at a time free floating nucleotides are added onto each side of the DNA chain until the entire length is  replicated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Book Antiqua"/>
              </a:rPr>
              <a:t>Complementary strand of DNA is produced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Date Placeholder 2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F84A-DFC8-451C-9714-7B76F1E5FF3D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6355-1D59-45BD-AFF5-639406FA8D4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304560" y="1447560"/>
            <a:ext cx="84582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Book Antiqua"/>
              </a:rPr>
              <a:t>Replication fork… DNA polymeras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Book Antiqua"/>
              </a:rPr>
              <a:t>cutting a ladder  in half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Book Antiqua"/>
              </a:rPr>
              <a:t>two identical ladder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Book Antiqua"/>
              </a:rPr>
              <a:t>This strand is then a copy of the DNA. </a:t>
            </a:r>
            <a:r>
              <a:rPr b="0" lang="en-US" sz="2400" spc="-1" strike="noStrike">
                <a:solidFill>
                  <a:srgbClr val="0d0d0d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d0d"/>
                </a:solidFill>
                <a:latin typeface="Book Antiqua"/>
              </a:rPr>
              <a:t>new cell when the old cell divides, and replicate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Book Antiqua"/>
              </a:rPr>
              <a:t>What happens if there is a mistake??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Date Placeholder 6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8D50-DB40-440D-934D-7FD2D68CAA20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7" name="Slide Number Placeholder 7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034E-C6C8-46B6-A969-F79D0857003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Title 1" descr=""/>
          <p:cNvPicPr/>
          <p:nvPr/>
        </p:nvPicPr>
        <p:blipFill>
          <a:blip r:embed="rId1"/>
          <a:stretch/>
        </p:blipFill>
        <p:spPr>
          <a:xfrm>
            <a:off x="225360" y="603360"/>
            <a:ext cx="8394840" cy="10857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6840" y="205740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PRODUCTIVE CEL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ODY CEL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3123720"/>
            <a:ext cx="404028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perm or Egg cel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f this cell takes part in fertilization, all the cells will have the mutatio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7960" y="3047760"/>
            <a:ext cx="4041720" cy="32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n reproductive cel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e. Skin, muscle, bon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en cell divides, the new cell will have the same muta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Biology\Cracking the Code of Life.docx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Biology\Protein Synthesis and Words.docx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ctivity!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Date Placeholder 4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305F-92F5-4EC8-8DB2-4C3944A78C08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8139-E20E-4896-B887-606F5F7630AC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8" name="Picture 2" descr="http://www.fife-education.org.uk/scienceweb/Resources/Biology/Hot_Potatoes_Files/S1/Microscopes_Cells/graphics/my%20paintings/cheek.jpg"/>
          <p:cNvPicPr/>
          <p:nvPr/>
        </p:nvPicPr>
        <p:blipFill>
          <a:blip r:embed="rId4"/>
          <a:stretch/>
        </p:blipFill>
        <p:spPr>
          <a:xfrm>
            <a:off x="3971880" y="2438280"/>
            <a:ext cx="5172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 Introduction to m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e unit quiz, and identify the chapters for the week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Date Placeholder 2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CB36-ED13-40FD-B78D-60CE6C98E702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979D-1D99-4794-8EF8-ADB8E5C95E7C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4257720" cy="5137200"/>
          </a:xfrm>
          <a:prstGeom prst="rect">
            <a:avLst/>
          </a:prstGeom>
          <a:ln w="0">
            <a:noFill/>
          </a:ln>
        </p:spPr>
      </p:pic>
      <p:pic>
        <p:nvPicPr>
          <p:cNvPr id="98" name="Title 1" descr=""/>
          <p:cNvPicPr/>
          <p:nvPr/>
        </p:nvPicPr>
        <p:blipFill>
          <a:blip r:embed="rId2"/>
          <a:stretch/>
        </p:blipFill>
        <p:spPr>
          <a:xfrm>
            <a:off x="603360" y="96840"/>
            <a:ext cx="8321400" cy="1708200"/>
          </a:xfrm>
          <a:prstGeom prst="rect">
            <a:avLst/>
          </a:prstGeom>
          <a:ln w="0">
            <a:noFill/>
          </a:ln>
        </p:spPr>
      </p:pic>
      <p:sp>
        <p:nvSpPr>
          <p:cNvPr id="99" name="Date Placeholder 4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EF65-6382-4A4F-BD21-6A91C923E5C0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4193-A01A-4657-8E98-E92A89BC29EF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90720" y="373356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enetics unit part 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5486400" y="53341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ritten by Kate Valentine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68320" indent="-282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De-oxy-ribo-nucleic acid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 instruction book for lif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ere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 every cell of our bodies.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How does it tell our bodies what to do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t has a code that our cells can rea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hat does this look like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 instructions are written in a chain of nitrogenous bases that are twisted  shape is  called a Double Helix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Like a twisted zipper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D4B5-5001-4109-9F28-F70958244D23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620A-A77B-4344-954E-68216BA7D6A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osalind Frankl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X-Ray Crystallography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Didn’t receive any credit for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her discovery until after her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death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tson and Cric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ever did experiments but did a lot of research and used data from others they realized the structure (1953) was a double helix and won a Nobel prize(1962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Date Placeholder 2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415B-6BE1-4748-AF7F-F20DC9A0A8A0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6706-B26A-424F-86F5-A35EB2F07C5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1" name="Picture 2" descr="http://37days.typepad.com/37days/images/2008/03/02/franklin20dna20photo.jpg"/>
          <p:cNvPicPr/>
          <p:nvPr/>
        </p:nvPicPr>
        <p:blipFill>
          <a:blip r:embed="rId2"/>
          <a:stretch/>
        </p:blipFill>
        <p:spPr>
          <a:xfrm>
            <a:off x="5486400" y="1066680"/>
            <a:ext cx="33336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298440" y="139680"/>
            <a:ext cx="8394840" cy="1165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348080" cy="5029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3"/>
          <a:stretch/>
        </p:blipFill>
        <p:spPr>
          <a:xfrm>
            <a:off x="228600" y="1455840"/>
            <a:ext cx="3984480" cy="54021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2286000" y="1996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Double Helix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378000" y="603360"/>
            <a:ext cx="8242200" cy="1079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380880" y="21337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NA is made of repeating subunits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nucleotid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3 part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499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mple sugar (deoxyribose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499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hosphate group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499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Book Antiqua"/>
              </a:rPr>
              <a:t>Nitrogenous bas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499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5181480" y="3524400"/>
            <a:ext cx="3962520" cy="33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itl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380520" y="13716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4 possible type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denine (A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uanine (G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ytosine (C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ymine (T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8320" y="1523880"/>
            <a:ext cx="4038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A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always pairs with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T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C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always pairs with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Book Antiqua"/>
              </a:rPr>
              <a:t>G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228600" y="3505320"/>
            <a:ext cx="73915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e DNA strand is made of letters: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TCCGTAATGAGCCTCG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ese letters make “words”: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ATC  CGT  AAT  GAG  CCT CGA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ese words make “sentences”.  These sentences are called genes. Genes tell the cell to make other molecules called proteins. Proteins enable the cell to perform special functions. (ie: to make hearing possible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itle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NA is the blueprint for lif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t tells our bodies how to build new cell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blueprint is different for all living things, but made of the same piec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same letters words and sentences are in all of u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4204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code to build a eye in us is almost identical to the code to build the eye of a dog, or mouse, or even snake, or insect!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Date Placeholder 2"/>
          <p:cNvSpPr/>
          <p:nvPr/>
        </p:nvSpPr>
        <p:spPr>
          <a:xfrm>
            <a:off x="45720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9F4D-4C20-4D26-94A0-360651F67023}" type="datetime">
              <a:rPr b="0" lang="en-US" sz="1200" spc="-1" strike="noStrike">
                <a:solidFill>
                  <a:srgbClr val="bcbcbc"/>
                </a:solidFill>
                <a:latin typeface="Book Antiqua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792468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2AE4-FC4C-41CD-9EF8-BC304CE76E4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3:43:30Z</dcterms:created>
  <dc:creator>Registered User</dc:creator>
  <dc:description/>
  <dc:language>en-US</dc:language>
  <cp:lastModifiedBy>Registered User</cp:lastModifiedBy>
  <dcterms:modified xsi:type="dcterms:W3CDTF">2009-01-27T13:20:51Z</dcterms:modified>
  <cp:revision>159</cp:revision>
  <dc:subject/>
  <dc:title>Heredity and Inheritance</dc:title>
</cp:coreProperties>
</file>